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FCB4-74C7-4B6E-A490-CB18334513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4995-C630-4BE0-8D4E-C0C7BC61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AA6A-1AA8-4967-A314-4DFC4083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3758-B901-4175-B518-02023FF3AB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5076-FD27-4944-B225-528669F6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7486-AD43-421F-B493-D204F35A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5E43-30F6-43DC-B49D-2793BF8E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9198-EB5F-4C8F-9082-050F8AA2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F48A-05F1-4687-81AB-562B0D51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157A-9FBF-4B56-9EE9-FF1CFDBD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AC14-EBA3-4AF7-9A10-6CA2CBD4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302B-E6CD-4937-B751-A71444A1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265A-C2F2-4EA3-B5E7-3FAC75A8C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 B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irr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rch 09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E29BC-2470-4A2B-A46F-3053D4D062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08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355760"/>
            <a:ext cx="87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LPGRR2005 001 section 17_P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590920"/>
            <a:ext cx="8839440" cy="222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8080"/>
                </a:solidFill>
                <a:uFillTx/>
                <a:latin typeface="Arial"/>
              </a:rPr>
              <a:t>VOTING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approval of the LPGRR2005-001 made by the PWG entitled,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ync LPG to Protocol revi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ubmitted to the RMS exploder on 02/24/05 in file nam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2005 001 section 17_PWG.doc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22D1-A1B5-420D-BC8C-9BC721F26644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08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rine Podraza</cp:lastModifiedBy>
  <dcterms:modified xsi:type="dcterms:W3CDTF">2005-02-24T16:34:28Z</dcterms:modified>
  <cp:revision>121</cp:revision>
  <dc:subject/>
  <dc:title>PowerPoint Presentation</dc:title>
</cp:coreProperties>
</file>